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683-6FFB-4850-AFEF-C8E54424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A8D-0CC9-4DAB-90F0-A344F938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C7DBB-0F27-48DC-B2D5-5842DFD9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EFE8D-B4E0-4A2F-A198-1A337BA5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BF061-4683-4C3A-B8CC-6524D4BB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C8EA5-D580-4354-B31E-C3A2C57C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002C2-4D86-4A68-A86A-CC47C1FA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1F8BC-B64D-4838-9398-65E2500E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C489F-2E78-474D-9570-C7723C9A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BB859-C7FA-4A4D-B019-6A745C02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338E7-F92F-4CCF-91DF-078EC94A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9672B-DC34-4BC7-A767-2FEADD97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D68-FA92-4E91-AC31-F0AA532A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F69B6-D03E-4DFA-A48D-845C7DD4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BC0A5-650F-4E9E-BEB2-2F469549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C2E4C-CA02-4CCD-8601-BFFC926F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DD5A2-E725-485B-938E-2E2209D3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5D24B-4136-4615-AA17-02A9E5E1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39C1E-A4E4-4933-A6B0-3B08DC47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C9A36-BF7A-4FA5-A572-D5CB3E0C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5E60D-7204-4EC0-A971-A9C34C27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1A438-9BF5-41D4-BC98-0913C70C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D41D5-B93A-4398-9CF4-B1685C5F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EDF-9DBA-40BC-9783-4287B815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A6806-C34D-4C08-BD7B-32941441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80114-F795-4C0F-9BA2-AF859CB5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D56FF-1638-4D0D-A41A-494359A6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7316B-BCB1-464B-9A58-84DDF15A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FBDF6-773F-4874-92D2-0B70C0C2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52D50-74CD-45BE-937A-70F450CC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E78C7-3EEE-494F-A3B6-9F248892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9FDF5-736A-43AD-8D84-B26EB545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B69B1-DDD4-4DB4-8924-C3A84F28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AE57C-9FE5-4072-BA8F-A505473C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53B2-19AE-4566-961B-3C965167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5EA7A-9BF2-452E-9B27-46CC23DE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5A5F9-1C67-4BDE-8C9F-045466A4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92E16-A92C-4462-90E8-63E3E028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73C50-568A-4DA3-ABCC-2423A9F9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9ACFA-55B9-4D3F-B8DF-9914A5C8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CA845-5715-4DF0-8D70-433AEB7B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3D4F1-C2E2-44C9-8568-B83278BB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CFA90-5674-450E-9B0F-821615DE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DB040-FC8F-4DBF-8F33-8387EE52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C6CFC-9282-4849-95FA-95EB576F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39B4-8F03-4E7F-B1AB-1ECD00B2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BA937-F0B0-4041-B55D-50EA4CA5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B4A3B-1245-458E-8C2B-5E24FEF2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7DA88-3A29-45C4-A6B5-304500A1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2DB5B-831C-4753-9964-EE2DF85E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59F80-B74E-4890-9D88-1EF325EF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96AAE3-950E-45BE-BFB0-F0F35223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9AD3C-3110-4A67-A91D-C926EC33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352315-2C3E-4D9C-88BD-0D537017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A3406-14AD-4209-9577-652A64D3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A0B572-DE76-4E61-84F1-94C4FDD5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7ED4-1E40-4C25-AC70-BF5A78B8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F5CC13-4F82-4B72-A541-A846744B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CF1A11-0C9D-4836-8C97-A099CAE3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327F0-2193-4D64-B80E-B1E6F043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55345-0603-4CBC-8B69-5C204D6D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9D3E6-AE91-4A18-B46E-16BBB9A6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E907D-F5B2-4B15-A574-AC173329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33C9E-6BC4-4ED3-A190-BF67E3B7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322C26-52C6-4C66-B353-1D84A5D2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DA82B6-7157-4892-97D3-F4CF4D5D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72BDBD-59E9-4459-843B-58EF3B23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3D75-5BDF-4FEC-A9FB-B107D5A3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CFB8CC-A507-46FB-889D-687A20A7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AE853E-9D1B-4D8A-8186-BBAFF386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04EA0B-C93E-4411-9CF4-A19F3736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C23A59-B4AC-4473-9A7E-A25D9B15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26A69F-9783-4F36-933F-02499100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41C9A-E544-4A11-94BC-5C233CDF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94B30D-C187-472F-805F-44E332B9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396BD3-DE86-4D0B-A68C-0481DAB9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026F0B-E39C-401C-A883-90B42688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00B1E2-6D9B-4E56-AC7B-A3E862D3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4E3C-1BC9-423C-81D7-CC34FF6A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541E38-B842-4A46-B9A6-8537E291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51533-A8E2-43FC-AEAF-94CF2D9A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D87C7C-01A2-449E-AD87-2B08A7BB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2D22E1-24C0-47C6-B2BA-FEE93AA3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7869A6-8453-4B51-A6FA-8025CC0A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D5A574-3875-443A-B3BC-E2CC8345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0346FE-724B-4BFF-9B2E-E8EB9C77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9A2497-839C-464D-98D0-B7FCFC5B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ED1BD0-2B97-41C0-807F-D6A073BE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6CF17F-7E3F-4FF9-82A8-84544C4B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074B-D5B9-420E-A517-E96C7159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80087D-1C71-4E65-AC86-CD1C98A9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30CBB5-E539-4007-AF6E-0C312D0F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497952-638F-465F-B0FD-19B77BE6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3BDF04-4A08-4BD2-B1C1-8136F8CB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F77EF9-7D84-4AA4-A6B7-FCB14C92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E76034-809A-4004-B360-54BCBC4A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1F904C-10DA-429C-88E1-C9470C55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7D578E-A831-4AA5-87B0-12F21695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609FA7-0B89-47C6-954F-9D905BC2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247C4C-CAA2-472A-818C-6A1ED316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9E88-BBA0-4D4A-8899-BBE85E5B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285A6D-5047-4E3C-AAD4-41C654A5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EAB63A-79E8-459E-83F9-C7CC1872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7232A3-FCA2-43A1-A187-B52E026F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19B79A-79D9-4D55-8A49-E44E1613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315192-C1DE-478F-97EA-A9FCF6CD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5230A1-B402-4A1E-A626-CDBF9135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F0CD66-DD7A-4F3B-805B-FB8E6385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741ED5-8ABF-4A6D-9CAF-DA725A5F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3C5192-93B3-4667-8DF9-AA6D5799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4ACD2A-6B90-4D81-BCBA-56BBA7C8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0DA1-EF3E-43B2-AA4B-CFE9E3D8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5233-6953-41C1-9C16-9CA82A98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25B844-0E24-4DFC-8037-72BF0145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71F51E-7AD9-4058-8A26-C390AE99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AABEA0-A8DF-4B43-AEB5-1F74D37B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327C97-8B37-4A8A-81F5-29A68A15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E1A956-85E8-4ED9-9BDD-88081740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23E7-119E-4B5E-A67A-029A7771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9A28-B1DF-4893-98FD-6077E36E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302C-12D8-4902-958D-82A247A4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7731-18C1-4659-B20F-FF09430D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5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6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A17A9-3159-49E4-B087-8119A2BA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53FB7-EAC9-4D98-8DDF-16111F57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3E591-F8F3-4AE7-80F2-66A0F36B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D394B-0DA0-4D9D-B6C1-B9B924D8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40882-A91D-4A9F-BC7A-D891F893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7987-9F8F-4749-8E00-BE1E75C9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AF978-0354-41B6-A3BC-FCCCE72B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CFFFC-457D-4084-86F0-C40659B0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D2E05-C59A-432F-9987-E6C9D41D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EE097-5A4B-4C24-BD84-02E3C0DA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6C37E-0D37-4560-88AF-0C5C549B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F2E58-5319-41CC-975E-35F02F66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BDD3D-D971-4B07-9FE8-4FCFB8FF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F67A6-55B5-4331-ADA6-38DC6587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C2825-BCE8-404F-AEBB-3121FEE5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40C06-9345-4854-ADD2-98EFB816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F47-2B28-4450-91EA-6244C3B9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ADC92-4DE7-4069-8CD0-52AC2AA0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0CDF1-0D69-4542-B62F-215E1260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BFD89-3626-41B1-A5A3-A5256AA9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4EC29-6958-4523-A3B1-7AD8A112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02E18-DF0C-4512-8399-5165F2A7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4B582-04BC-4371-9407-9E0AAC0A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4F85C-F2BC-4BEE-A081-7BF9AC4E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CC4B3-9B56-4301-A5A7-70767DB1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C016B-158F-4C78-8A7B-5C9DB70C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9C965-0301-4D37-B91A-478499EB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8F3F-88C4-4A22-9DBD-8FC7D652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8C2B5-4E9D-42D1-8D77-8EC92A73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0769D-2D9F-466F-96B4-83D49207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E8045-33DF-434E-B942-0A29054A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3F2E4-4A10-4F3D-B84B-8CCB251A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5ACEB-1F9B-460C-AF1B-66E00EB6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6B3A6-D0EF-4223-948E-8A485271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0A95C-B0F7-4BB4-B9F1-D08F0A0F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D46D1-61D3-4E79-A9CA-C61842EF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6D5F4-7B32-44B1-A9A5-80C79268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45DB4-6DB6-453D-9F9B-A1A5C799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9417-65F8-4310-A438-D43138DA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DD397-E1EA-4908-93CF-076FFEB8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892DD-1966-41EC-9D91-2494217D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54662-B707-4EEF-817C-3B2EE84B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1688E-0D46-43D1-B3CC-C6E9E181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40E19-0E11-4371-9D2D-11836E91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3C4F1-F1F9-44B7-BAE7-F6549C29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DA322-5A48-401E-8EE1-E1325331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67809-9E21-40D4-ADE5-AA76473C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3E34D-7400-435F-81AC-328D7567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35B24-35D8-4DA2-A25E-5153646C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C3C1-2536-44FB-9866-4998BACE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4FF87-C931-4AC5-9036-CEFC728B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7A39C-8256-4D4A-BC97-48B5ACC9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F2932-DD9D-40A8-9116-0C51CB77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7FA4A-A99A-4CA1-8035-DF43379C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3A0E2-D135-4E6A-AF94-83B91057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211DD-DC0F-4B7E-A6A4-77D8930E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CEFD0-79D6-42B4-B835-CE9FDD2C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286F0-F0E7-4EF2-B0CF-513C5354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CD268-8E48-4AB4-B476-74046823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0CF96-3CBE-4665-8E58-E857C73E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CC5-FB86-4FE1-9252-232F82DA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1AE7D-7E4E-4823-BBFC-C36B3F3C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22E71-769E-44B7-9BCC-E9A970BB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4E9D5-338E-4A19-9899-0541C956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73202-3CD4-471F-B222-858FCC78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4CD7A-B234-4B8F-A7C3-8347C548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0CEDE-C32A-4994-8655-36F0121C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A9C0E-7092-4531-9018-E2940C7F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9B630-EB92-4E50-9CA8-5B623056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81539-DA3B-43BF-875B-DC3E5CEA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671E9-9240-4E0F-AA94-64AA13F1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215A-8EF4-4D80-8124-D8A5472B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D1A51-0046-4B7E-A8C5-98153D78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1D01B-05FE-40F3-89F8-AF39ECFF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D2A11-8F74-4553-B089-C19521CA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4F4DE-266E-485C-B2B6-AD47F487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B2139-D4E7-4CC7-9A9A-E24D7AC9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7E4BB-1066-457C-87F7-509857EE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A3B25-9711-48B7-B2E8-AE4A48D7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A01E7-AD0B-44C6-830A-8C48958D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C692C-E8EA-42D8-9628-0D831CF8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EEF59-8C03-49F4-835A-1FFF10D5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1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398160" y="6573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2C6D0-116A-4C5C-A9A4-4020F303F423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621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2880" y="4092480"/>
            <a:ext cx="1192320" cy="4240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398160" y="41529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A7EF6-5284-44A1-BF0B-3D7C05D289F2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690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2880" y="2647800"/>
            <a:ext cx="1192320" cy="4240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398160" y="2703600"/>
            <a:ext cx="585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66BA7-9A16-47FB-B01B-F5532D6C98A6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759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2880" y="2647800"/>
            <a:ext cx="1192320" cy="4240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51120" y="539640"/>
            <a:ext cx="4572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335800" y="2421000"/>
            <a:ext cx="4572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398160" y="2703600"/>
            <a:ext cx="585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7A7AC-BFA9-4AA3-BA4B-1EFE16090AE4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830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2880" y="4092480"/>
            <a:ext cx="1192320" cy="4240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398160" y="41529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CAB7A-4442-4245-A1F2-B6926C2219A0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899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2880" y="4092480"/>
            <a:ext cx="1192320" cy="4240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16"/>
          <p:cNvSpPr/>
          <p:nvPr/>
        </p:nvSpPr>
        <p:spPr>
          <a:xfrm>
            <a:off x="1851120" y="539640"/>
            <a:ext cx="4572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17"/>
          <p:cNvSpPr/>
          <p:nvPr/>
        </p:nvSpPr>
        <p:spPr>
          <a:xfrm>
            <a:off x="8335800" y="2421000"/>
            <a:ext cx="4572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398160" y="41529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D6BF1-752D-4418-A36F-27C3D24BD764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970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2880" y="4092480"/>
            <a:ext cx="1192320" cy="4240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398160" y="41529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7F272-91B3-40F3-A08B-96A15B0417EB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1039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2880" y="594360"/>
            <a:ext cx="1192320" cy="4222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398160" y="6573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E42BB-2AB0-4CFA-9357-BFB977617814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1108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2880" y="594360"/>
            <a:ext cx="1192320" cy="4222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398160" y="6573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F0CDE-8BB0-4C4F-8C22-7D87DC660357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1177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89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02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203" name="矩形 11"/>
          <p:cNvGrpSpPr/>
          <p:nvPr/>
        </p:nvGrpSpPr>
        <p:grpSpPr>
          <a:xfrm>
            <a:off x="0" y="5334120"/>
            <a:ext cx="9144000" cy="377640"/>
            <a:chOff x="0" y="5334120"/>
            <a:chExt cx="9144000" cy="377640"/>
          </a:xfrm>
        </p:grpSpPr>
        <p:pic>
          <p:nvPicPr>
            <p:cNvPr id="1204" name="矩形 11" descr=""/>
            <p:cNvPicPr/>
            <p:nvPr/>
          </p:nvPicPr>
          <p:blipFill>
            <a:blip r:embed="rId3"/>
            <a:stretch/>
          </p:blipFill>
          <p:spPr>
            <a:xfrm>
              <a:off x="0" y="5334120"/>
              <a:ext cx="9144000" cy="37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"/>
            <p:cNvSpPr/>
            <p:nvPr/>
          </p:nvSpPr>
          <p:spPr>
            <a:xfrm>
              <a:off x="0" y="5334120"/>
              <a:ext cx="914400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06" name="矩形 9"/>
          <p:cNvGrpSpPr/>
          <p:nvPr/>
        </p:nvGrpSpPr>
        <p:grpSpPr>
          <a:xfrm>
            <a:off x="0" y="-23760"/>
            <a:ext cx="9144000" cy="792000"/>
            <a:chOff x="0" y="-23760"/>
            <a:chExt cx="9144000" cy="792000"/>
          </a:xfrm>
        </p:grpSpPr>
        <p:pic>
          <p:nvPicPr>
            <p:cNvPr id="1207" name="矩形 9" descr=""/>
            <p:cNvPicPr/>
            <p:nvPr/>
          </p:nvPicPr>
          <p:blipFill>
            <a:blip r:embed="rId4"/>
            <a:stretch/>
          </p:blipFill>
          <p:spPr>
            <a:xfrm>
              <a:off x="0" y="-21960"/>
              <a:ext cx="9144000" cy="78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8" name=""/>
            <p:cNvSpPr/>
            <p:nvPr/>
          </p:nvSpPr>
          <p:spPr>
            <a:xfrm>
              <a:off x="0" y="-23760"/>
              <a:ext cx="9144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7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1248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9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0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1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2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3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4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5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6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7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8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9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60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1261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2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3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4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5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6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7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8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9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70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71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72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73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274" name="矩形 11"/>
          <p:cNvGrpSpPr/>
          <p:nvPr/>
        </p:nvGrpSpPr>
        <p:grpSpPr>
          <a:xfrm>
            <a:off x="0" y="5334120"/>
            <a:ext cx="9144000" cy="377640"/>
            <a:chOff x="0" y="5334120"/>
            <a:chExt cx="9144000" cy="377640"/>
          </a:xfrm>
        </p:grpSpPr>
        <p:pic>
          <p:nvPicPr>
            <p:cNvPr id="1275" name="矩形 11" descr=""/>
            <p:cNvPicPr/>
            <p:nvPr/>
          </p:nvPicPr>
          <p:blipFill>
            <a:blip r:embed="rId3"/>
            <a:stretch/>
          </p:blipFill>
          <p:spPr>
            <a:xfrm>
              <a:off x="0" y="5334120"/>
              <a:ext cx="9144000" cy="37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6" name=""/>
            <p:cNvSpPr/>
            <p:nvPr/>
          </p:nvSpPr>
          <p:spPr>
            <a:xfrm>
              <a:off x="0" y="5334120"/>
              <a:ext cx="914400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77" name="矩形 9"/>
          <p:cNvGrpSpPr/>
          <p:nvPr/>
        </p:nvGrpSpPr>
        <p:grpSpPr>
          <a:xfrm>
            <a:off x="0" y="-23760"/>
            <a:ext cx="9144000" cy="792000"/>
            <a:chOff x="0" y="-23760"/>
            <a:chExt cx="9144000" cy="792000"/>
          </a:xfrm>
        </p:grpSpPr>
        <p:pic>
          <p:nvPicPr>
            <p:cNvPr id="1278" name="矩形 9" descr=""/>
            <p:cNvPicPr/>
            <p:nvPr/>
          </p:nvPicPr>
          <p:blipFill>
            <a:blip r:embed="rId4"/>
            <a:stretch/>
          </p:blipFill>
          <p:spPr>
            <a:xfrm>
              <a:off x="0" y="-21960"/>
              <a:ext cx="9144000" cy="78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9" name=""/>
            <p:cNvSpPr/>
            <p:nvPr/>
          </p:nvSpPr>
          <p:spPr>
            <a:xfrm>
              <a:off x="0" y="-23760"/>
              <a:ext cx="9144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280" name="图片 37" descr=""/>
          <p:cNvPicPr/>
          <p:nvPr/>
        </p:nvPicPr>
        <p:blipFill>
          <a:blip r:embed="rId5"/>
          <a:stretch/>
        </p:blipFill>
        <p:spPr>
          <a:xfrm>
            <a:off x="7815240" y="0"/>
            <a:ext cx="1206360" cy="841320"/>
          </a:xfrm>
          <a:prstGeom prst="rect">
            <a:avLst/>
          </a:prstGeom>
          <a:ln w="0">
            <a:noFill/>
          </a:ln>
        </p:spPr>
      </p:pic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69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3603600"/>
            <a:ext cx="1308240" cy="64764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398160" y="3774600"/>
            <a:ext cx="585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0CC24-58D9-4FC0-B9DF-8407E95E6FE0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9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1320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21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22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23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24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25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26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27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28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29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30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31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32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1333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34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35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36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37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38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39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40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41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42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43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44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345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346" name="矩形 11"/>
          <p:cNvGrpSpPr/>
          <p:nvPr/>
        </p:nvGrpSpPr>
        <p:grpSpPr>
          <a:xfrm>
            <a:off x="0" y="5334120"/>
            <a:ext cx="9144000" cy="377640"/>
            <a:chOff x="0" y="5334120"/>
            <a:chExt cx="9144000" cy="377640"/>
          </a:xfrm>
        </p:grpSpPr>
        <p:pic>
          <p:nvPicPr>
            <p:cNvPr id="1347" name="矩形 11" descr=""/>
            <p:cNvPicPr/>
            <p:nvPr/>
          </p:nvPicPr>
          <p:blipFill>
            <a:blip r:embed="rId3"/>
            <a:stretch/>
          </p:blipFill>
          <p:spPr>
            <a:xfrm>
              <a:off x="0" y="5334120"/>
              <a:ext cx="9144000" cy="37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8" name=""/>
            <p:cNvSpPr/>
            <p:nvPr/>
          </p:nvSpPr>
          <p:spPr>
            <a:xfrm>
              <a:off x="0" y="5334120"/>
              <a:ext cx="914400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138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2880" y="594360"/>
            <a:ext cx="1192320" cy="4222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398160" y="6573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49F05-BE5B-4E80-8E89-9E5CFEBA2B6F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207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2880" y="2647800"/>
            <a:ext cx="1192320" cy="4240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398160" y="2703600"/>
            <a:ext cx="585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56EE3-ED73-456A-BAF5-A37F6AA90E5E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276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2880" y="594360"/>
            <a:ext cx="1192320" cy="4222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98160" y="6573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F3BE7-D07B-4375-9588-82ECEAD16273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345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2880" y="594360"/>
            <a:ext cx="1192320" cy="4222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398160" y="6573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C49055-236B-40B4-A853-F8F3D770219D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414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2880" y="594360"/>
            <a:ext cx="1192320" cy="4222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398160" y="6573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48B88-B2E5-45AD-B456-7BA023C3E099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483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2880" y="594360"/>
            <a:ext cx="1192320" cy="4222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398160" y="6573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96706-D3A4-452C-AADC-82B1233DC90C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552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2880" y="594360"/>
            <a:ext cx="1192320" cy="4222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398160" y="6573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E2B59-90BD-4457-81E9-D17B3B718244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矩形 8"/>
          <p:cNvSpPr/>
          <p:nvPr/>
        </p:nvSpPr>
        <p:spPr>
          <a:xfrm>
            <a:off x="0" y="1903320"/>
            <a:ext cx="9144000" cy="1656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388" name="矩形 3"/>
          <p:cNvGrpSpPr/>
          <p:nvPr/>
        </p:nvGrpSpPr>
        <p:grpSpPr>
          <a:xfrm>
            <a:off x="755640" y="1901880"/>
            <a:ext cx="3530520" cy="1658880"/>
            <a:chOff x="755640" y="1901880"/>
            <a:chExt cx="3530520" cy="1658880"/>
          </a:xfrm>
        </p:grpSpPr>
        <p:pic>
          <p:nvPicPr>
            <p:cNvPr id="1389" name="矩形 3" descr=""/>
            <p:cNvPicPr/>
            <p:nvPr/>
          </p:nvPicPr>
          <p:blipFill>
            <a:blip r:embed="rId1"/>
            <a:stretch/>
          </p:blipFill>
          <p:spPr>
            <a:xfrm>
              <a:off x="755640" y="1901880"/>
              <a:ext cx="35305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0" name=""/>
            <p:cNvSpPr/>
            <p:nvPr/>
          </p:nvSpPr>
          <p:spPr>
            <a:xfrm>
              <a:off x="755640" y="1903320"/>
              <a:ext cx="35290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391" name="矩形 4"/>
          <p:cNvSpPr/>
          <p:nvPr/>
        </p:nvSpPr>
        <p:spPr>
          <a:xfrm>
            <a:off x="0" y="3495600"/>
            <a:ext cx="9144000" cy="222480"/>
          </a:xfrm>
          <a:prstGeom prst="rect">
            <a:avLst/>
          </a:prstGeom>
          <a:solidFill>
            <a:srgbClr val="f9d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2" name="标题 1"/>
          <p:cNvSpPr/>
          <p:nvPr/>
        </p:nvSpPr>
        <p:spPr>
          <a:xfrm>
            <a:off x="2341440" y="2308320"/>
            <a:ext cx="7315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幼圆"/>
              </a:rPr>
              <a:t>访问工程师总结汇报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3" name="副标题 2"/>
          <p:cNvSpPr/>
          <p:nvPr/>
        </p:nvSpPr>
        <p:spPr>
          <a:xfrm>
            <a:off x="4500720" y="4076640"/>
            <a:ext cx="40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汇报人：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4" name="副标题 2"/>
          <p:cNvSpPr/>
          <p:nvPr/>
        </p:nvSpPr>
        <p:spPr>
          <a:xfrm>
            <a:off x="5364000" y="4724280"/>
            <a:ext cx="21560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图示 1" descr=""/>
          <p:cNvPicPr/>
          <p:nvPr/>
        </p:nvPicPr>
        <p:blipFill>
          <a:blip r:embed="rId1"/>
          <a:stretch/>
        </p:blipFill>
        <p:spPr>
          <a:xfrm>
            <a:off x="457200" y="1328760"/>
            <a:ext cx="8229600" cy="3792600"/>
          </a:xfrm>
          <a:prstGeom prst="rect">
            <a:avLst/>
          </a:prstGeom>
          <a:ln w="0">
            <a:noFill/>
          </a:ln>
        </p:spPr>
      </p:pic>
      <p:sp>
        <p:nvSpPr>
          <p:cNvPr id="1396" name="TextBox 2"/>
          <p:cNvSpPr/>
          <p:nvPr/>
        </p:nvSpPr>
        <p:spPr>
          <a:xfrm>
            <a:off x="324000" y="873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汇报内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Rectangle 20"/>
          <p:cNvSpPr/>
          <p:nvPr/>
        </p:nvSpPr>
        <p:spPr>
          <a:xfrm>
            <a:off x="0" y="838080"/>
            <a:ext cx="4648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一、企业简介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21"/>
          <p:cNvSpPr/>
          <p:nvPr/>
        </p:nvSpPr>
        <p:spPr>
          <a:xfrm>
            <a:off x="0" y="820800"/>
            <a:ext cx="4648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二、实践目的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angle 53"/>
          <p:cNvSpPr/>
          <p:nvPr/>
        </p:nvSpPr>
        <p:spPr>
          <a:xfrm>
            <a:off x="6480" y="871560"/>
            <a:ext cx="464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三、实践成果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Rectangle 53"/>
          <p:cNvSpPr/>
          <p:nvPr/>
        </p:nvSpPr>
        <p:spPr>
          <a:xfrm>
            <a:off x="6480" y="871560"/>
            <a:ext cx="464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四、实践总结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矩形 4"/>
          <p:cNvSpPr/>
          <p:nvPr/>
        </p:nvSpPr>
        <p:spPr>
          <a:xfrm>
            <a:off x="0" y="1849320"/>
            <a:ext cx="914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2" name="矩形 5"/>
          <p:cNvSpPr/>
          <p:nvPr/>
        </p:nvSpPr>
        <p:spPr>
          <a:xfrm>
            <a:off x="0" y="1562040"/>
            <a:ext cx="9144000" cy="287280"/>
          </a:xfrm>
          <a:prstGeom prst="rect">
            <a:avLst/>
          </a:prstGeom>
          <a:solidFill>
            <a:srgbClr val="de7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3" name="矩形 6"/>
          <p:cNvSpPr/>
          <p:nvPr/>
        </p:nvSpPr>
        <p:spPr>
          <a:xfrm>
            <a:off x="0" y="4005360"/>
            <a:ext cx="9144000" cy="287280"/>
          </a:xfrm>
          <a:prstGeom prst="rect">
            <a:avLst/>
          </a:prstGeom>
          <a:solidFill>
            <a:srgbClr val="de7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4" name="TextBox 1"/>
          <p:cNvSpPr/>
          <p:nvPr/>
        </p:nvSpPr>
        <p:spPr>
          <a:xfrm>
            <a:off x="3708360" y="225756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a53010"/>
                </a:solidFill>
                <a:latin typeface="Arial"/>
                <a:ea typeface="微软雅黑"/>
              </a:rPr>
              <a:t>谢谢！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4:53:06Z</dcterms:created>
  <dc:creator>wangjing</dc:creator>
  <dc:description/>
  <dc:language>en-US</dc:language>
  <cp:lastModifiedBy>何鑫炜</cp:lastModifiedBy>
  <dcterms:modified xsi:type="dcterms:W3CDTF">2024-04-18T01:27:51Z</dcterms:modified>
  <cp:revision>229</cp:revision>
  <dc:subject/>
  <dc:title>PowerPoint 演示文稿</dc:title>
</cp:coreProperties>
</file>