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22BB-75AD-40CF-AA8F-86C29E00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BF9-8389-4306-8668-49D84201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91F-5A8A-46E7-AEB3-86443909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CFC-B891-4B25-BE26-B8D7B46D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EBE-BD0A-4DA9-B162-89DC24B1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EAD-6AEE-42F5-85EE-D367EC3C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9FE-3C34-423A-AA5F-03D799DD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DA1-49EE-4D65-A82B-66EF2ACA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5C2-33F6-4DC6-BDE9-04341DD3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F27D-45B3-4310-A979-0A4398CB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B16-0E60-4B87-8F1C-870D6AC9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C4B-960B-4DCD-AE55-CA8FD465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563D-9E9F-4675-AF41-72677EC86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2803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坚持党管人才原则与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创新人才工作体制机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3284280"/>
            <a:ext cx="77756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主讲人：郭庆松教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中共上海市委党校副校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129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二、创新人才工作体制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人才选拔集聚：广开进贤之路，广纳天下英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马克思主义唯物史观认为，科学技术是推动经济发展和社会进步的生产力，人是生产力中最活跃的因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人才是人力资源中的先进部分，是科技创新的主要承担者，人才对经济社会发展的创造性贡献，决定了人才是最活跃的先进生产力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2116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邓小平同志在论述对马克思主义的理论要解放思想、创新发展的时候，作出了一个时代性的判断：科学技术是第一生产力。而人才是科学技术的主要载体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要充分认识人才在创造和发展先进生产力中的关键作用，不断解放思想、解放人才、解放科技生产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204300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早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拘一格降人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民族理念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泽东同志、邓小平同志、江泽民同志多次强调，杰出人才是来自人民的，在广泛的群众基础上，才能不断涌现出杰出人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要不拘一格选才、育才、用才，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每个人都有成才的机会，让每个有志成才的人都有发展的空间，让每个为国家和人民作出贡献的人都能得到社会尊重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才：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存在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-2116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人才优先发展：加快确立人才优先发展战略布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人才优先发展是后发国家实现现代化追赶的成功经验，也是我国东部发达地区率先发展的成功实践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116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与此同时，由于存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发劣势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国要在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时间中把发达国家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中不断出现、不断解决的矛盾与问题集中到了这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时空中，使改革发展同样面临着十分严峻的挑战，这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空压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负面效应。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-2116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胡锦涛同志指出，要确立在经济社会发展中人才优先发展的战略布局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做到人才资源优先开发、人才结构优先调整、人才投资优先保证、人才制度优先创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习近平同志强调，要把人才资源开发放在科技创新最优先的位置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改革人才培养、引进、使用等机制，努力造就一批世界水平的科学家、科技领军人才、工程师和高水平创新团队，注重培养一线创新人才和青年科技人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人才队伍建设：统筹推进各类人才队伍建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人才培养和开发是一项系统工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年树木，百年树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人才开发要靠长期持续的系统培养。全社会的终身教育体系，教育与实践相结合的培养体系，科研与生产相结合的创新体系，都是人才开发合乎规律的系统工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我们要遵循人才资源开发规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着眼经济社会发展的现实需要和长远需要，全面规划、系统培养各类人才，形成人才辈出的良好局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129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28600" y="3808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今后，人才的系统培养重在三个方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-2116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现实决定我们必须坚持高端引领、整体开发的方针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高层次人才和高技能人才为重点，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强人才队伍建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大力培养世界级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学家和科技领军人才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具有国际化视野、精通国际化规则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际化人才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具有全球战略眼光、市场开发意识、管理创新能力和社会责任感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优秀企业家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技艺精湛、掌握绝技绝活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技能人才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技能人才队伍建设要在三个方面力求突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-2116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党的十八大：坚持党管人才原则，把各方面优秀人才集聚到党和国家事业中来。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来说包括：人才选拔集聚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才优先发展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才队伍建设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才开发利用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才体制机制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4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党的十八届三中全会：建立集聚人才体制机制，择天下英才而用之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党的十九大：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才是实现民族振兴、赢得国际竞争主动的战略资源。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坚持党管人才原则，聚天下英才而用之，加快建设人才强国。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行更加积极、更加开放、更加有效的人才政策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65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人才开发利用：充分开发利用国内国际人才资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学发展以人为本，人才发展以用为本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才作为一种特殊的资源，其价值完全在于使用。作为个体的人才越用越聪明，作为整体的人才越用会越增多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继续把用好用活人才作为人才工作的永恒主题，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力解决人才不适用、不够用、不能充分使用的问题，让各类人才各得其所、用当其时、才尽其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24000" y="189000"/>
            <a:ext cx="8640720" cy="63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克强：我赞成以用为本这个提法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为它把教育规划与人才规划区分开来了，教育规划重点讲培养，人才规划重点讲使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坚持人才以用为本，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包括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方面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提供施展平台，保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有所施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强化开发力度，保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有所长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激活人才效能，激发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有所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优化激励机制，兑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有所值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树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人才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实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智融通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8124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人才体制机制：加快人才发展体制机制改革和政策创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人才发展的关键在体制机制，体制机制的活力来自改革创新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是，在社会的各个领域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下制约人才发展的落后观念、体制机制障碍还很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人才发展的五大障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6840" y="333000"/>
            <a:ext cx="8435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我们要进一步开阔眼界、开阔思路、开阔胸襟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断破除束缚人才成长和发挥作用的思想观念和制度障碍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要坚定不移地推进识人选人用人制度的改革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成熟的改革经验上升为制度规范，把普遍有效的重要政策纳入国家法律法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创新人才工作五大机制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开发机制，评价发现机制，选拔任用机制，流动配置机制，激励保障机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79280" y="304920"/>
            <a:ext cx="8785440" cy="63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人才激励的应用：人才激励要用有效的方法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204300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三、按照党管人才原则做好上海人才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创新人才工作体制、机制和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创新人才管理体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建立组织部门牵头抓总的人才工作体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63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编制涵盖多支队伍的人才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50920" y="151920"/>
            <a:ext cx="8664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探索建立统一的人力资源大市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10480" cy="63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整合和完善新的海外人才引进机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构建人才工作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抓紧引进一批建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个中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需的海外人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905120" y="-213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21877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99640" y="1125000"/>
            <a:ext cx="727236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一、坚持党管人才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二、创新人才工作体制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三、按照党管人才原则做好上海人才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51920" y="189000"/>
            <a:ext cx="8812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充分整合教育资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建立激发各类人才创造热情的兼职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812440" cy="65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构筑长三角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才共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4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突破人才建设的一些基本政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构建人才统计新标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突破限制事业单位人才活力和动力的瓶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881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造就一支职业经理人队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" y="304920"/>
            <a:ext cx="868680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加大对非公经济人才的扶持力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建设国际人才特区：以浦东新区为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海国际人才特区建设的目标模式：就是率先建立符合浦东实际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际人才特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个特区的重点就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国际人才这一特定人才群体，在人才的管理体制、政策法规、公共服务和综合环境等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面大胆创新、不断改革，与国际惯例全面接轨，率先建成具有国际竞争力的国际人才高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-139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索建立绿卡制度，落实海外人才的国民待遇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外籍人才，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4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公安部出台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国人在中国永久居留审批管理办法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也就是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绿卡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度。但现行绿卡制度申请门槛较高，地方没有审批权。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索教育体制改革新路，搭建吸引、留住国际一流学者的一流工作平台，建立国际人才教育培养基地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04300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一、坚持党管人才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实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坚持党管人才原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实现中华民族伟大复兴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经成为新一届中央领导集体治国理政的战略目标和核心理念，必将激发全体中国人奋发向上的热情和共享人生出彩的机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强知识产权保护的政策法规体系建设，构建鼓励创新、保护创新的制度软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推进人才中介、医疗、教育、货币汇兑方面的国际化建设，搭建符合国际惯例的国际人才综合服务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建立符合国际人才特点的个人所得税制度，充分发挥税收对人才的激励调节作用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重视各类非政府组织的引进、发展，营造多元的社会人文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8920" y="260280"/>
            <a:ext cx="871380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实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过程中坚持党管人才原则，既体现了党的权威性与人民主体性的有机统一和完美结合，也有利于党凝聚各类人才共赴圆梦的征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坚持党管人才原则需要赋予其时代特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党管人才的内涵：在把握人才成长规律和人才工作规律的基础上，发挥党在人才工作中谋大局、抓关键、管大事的功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2116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党管人才的本质：为党聚才、为国聚才、为事业聚才。为党聚才是形式，为国聚才是内容，为事业聚才是关键。正所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以才立，业以人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党管人才的形式：归纳起来就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个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即管宏观、管政策、管协调、管服务。实践中，党管人才的责任主体是各级党委以及作为各级党委代表的组织部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党管人才的路径：可以归结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即党管人才必须与尊重人才成长规律相结合，与市场配置人才相结合，与法制管理人才相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03:14:39Z</dcterms:created>
  <dc:creator>guoqingsong</dc:creator>
  <dc:description/>
  <dc:language>en-US</dc:language>
  <cp:lastModifiedBy>lenovo</cp:lastModifiedBy>
  <dcterms:modified xsi:type="dcterms:W3CDTF">2018-07-20T06:12:13Z</dcterms:modified>
  <cp:revision>152</cp:revision>
  <dc:subject/>
  <dc:title>树立科学的人才观 实施人才强国战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